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09C-0218-4F2F-ACE5-049976A2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FFF-303E-4206-A9B8-9143AE3F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550-91BB-4633-B047-349E35F4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0E3-C32F-4428-AB3B-54C380D8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5502-2F05-4CBE-A0E7-55D8729A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606-98E7-47A9-8D38-DC4B7CC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623-93E6-4E91-8397-856E4C9F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2ED-477B-41C6-B71A-8041E32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4B7D-AA13-45C2-931C-4A631A18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1CE-1493-4CB9-BA05-91AF1E91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A2F8-9ABC-413A-8B54-EE02C5ED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F0F-D0C7-4B0B-AE75-C08E4105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4EF-1959-42FA-8889-E2619AB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314F-3EBC-4489-8BB4-953847C3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35B0-B53B-491E-881B-656D8EF1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90B-688D-40E6-AD11-AE3D0BDD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5DCE-80F9-467E-9D55-88DC99D6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2B9-CC7D-4430-B5B8-F76AC66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153-4F3F-439A-963C-E10A0B4E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8EF-8B37-4D6F-9069-A966996D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A81-DD40-467E-8DF1-C82DF7F7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B37-2634-4A43-9A28-1F58F11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E3A-5FC8-489C-888D-6BCDFD4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24D-F942-45C6-8ECA-C57E84E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548-9132-4E86-8655-5A2D6D4F41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98D-F2FC-40B3-8755-A5071C4DA9E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TAKS Reading Proces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the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Prior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and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nalyze the Task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ok over the se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edict its type – narrative, expository or fun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ki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lection for graphic design elements that indicate theme or 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tween the title, illustrations and the typ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ctivate Prior Knowledge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all directly relevant facts or exper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all your prior knowledge of the type of selection, subject and vocabu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Plan and Predic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reading, pl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ou will read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predictions based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e 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di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you 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Read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efu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ow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fro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ginning to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rrati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nderst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ory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osito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nderst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ut top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se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cument; who will use it; how is i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Use Information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nt summ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answering 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read to look for graphic design elements to assist you with 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, answ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umm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content summary does not match the questions, rerea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7:43:49Z</dcterms:created>
  <dc:creator>Teresa Easterling</dc:creator>
  <dc:description/>
  <dc:language>en-US</dc:language>
  <cp:lastModifiedBy>Teresa Easterling</cp:lastModifiedBy>
  <dcterms:modified xsi:type="dcterms:W3CDTF">2008-08-01T17:59:21Z</dcterms:modified>
  <cp:revision>2</cp:revision>
  <dc:subject/>
  <dc:title>TAKS Reading Process</dc:title>
</cp:coreProperties>
</file>